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11B-DBEC-4118-9860-16B226CB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109-755B-4FAA-B9B3-5A84A3C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685-852F-40E1-B031-D111F3ED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7D9-8E9C-4727-B02A-B032B318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13C-1AC4-4CD0-9FC7-C41C97CB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EFF-D5C3-4596-BDE1-5A439DD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3809-4A87-49A2-AED2-745C2D3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0E04-C950-4AFC-A429-23142698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7C67-21A7-43D9-82B1-EF9F101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0707-FADC-4C2C-A6F6-0994FD2A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5733-87ED-40B5-936E-844B813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0C6-4513-4E7E-AB6D-E61C76A9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3B6F-658C-44DF-A446-BEE32F2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54D-4BC8-4A4E-8193-FF191759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546-CAC0-48F2-B2D3-B08172F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3AD9-69DD-438C-B460-BD234A48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063-DC3A-4846-A675-4D0DF2A1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EC97-6F8A-491F-BA45-9363A266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8B6C-7690-48DB-B023-69715C7C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B171-D542-497D-A179-6A56478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B191-41A1-4454-94ED-235479A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793A-0D62-4906-BCFF-E3CE520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A86-1880-41A6-A8B0-696E03E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B747-F915-4A4D-A4D6-FC9F4F74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70F2-8985-4C01-A99F-70AE415E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0031-AA76-4A44-BF68-84A4456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980A-CF32-4627-BF11-07CE01A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A1E7-44BA-4523-BB46-402FEB1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8FD4-E180-4BD6-9E5A-1120F083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4788-028F-4EB3-BC83-89C00CC7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DE6D-74E8-4942-A76B-E7459356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EE72-D2D4-47D5-97B9-B78AB57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D5B1-C9CA-4E54-A97F-99C76A1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E5F-9762-4CD1-9C52-2AB50F60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6919-739E-4B65-B979-610270B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5F5F-BE07-4B78-8E11-8B95C97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2C68-5445-4C7D-8A8B-B722487B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770E-9FE9-4C99-AE67-6152029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F3E1-DF01-4596-A5CC-F122852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3986-E1B0-4CBF-8875-43F60C3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F1D8-CC42-4F0A-A1F7-FE56A4E3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839F-1750-4277-BE1D-30A40469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8F4D-3F53-4797-81D1-E0668303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0590-37B0-4763-A884-C58EE78E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270-DCDD-43DB-A608-C658102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0731-2FA3-41C2-A271-4AB7AE1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1A19-AE91-4CA1-8165-8851DF2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3B24-0C0B-449C-B156-966ED0B1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EE1F-7AEB-4414-A6B0-5A4C6A8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714E-6E16-40B2-A089-123EBC5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4ABD7-8778-43A6-B7B0-18DE207C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1D6E-9782-49FD-BA99-9CCDA994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FBA1-E0A9-4E4D-8171-C0BF7471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B247A-FE91-4323-81A7-B05FB2F3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CDC95-CA01-4932-BD87-D71BF8AF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D15-D6AC-4606-AF97-CFB12C7F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6CD6-F18F-4DBA-9905-4BE7E71F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9E8-EE68-45CF-A2EC-CF4C993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2E9-B1D3-468C-A773-0EA7AE8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21A-207B-4F3F-9A83-10A3328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3C51-FB35-4E09-81D3-ECA5D0F1E9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7424-1E62-452F-8E79-3BC21012FF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13B-10BE-453C-B0CA-A9831CB97B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B962-B888-4E40-80E2-B76B177525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B628-DA13-4826-A227-002F51C467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anadiantire.ca/intro/homepage.jsp;jsessionid=BItXJDwMF41ohgfqtjb4cFYaJoxlrlp3r9irIsU1TYEye69cEMuQ!1806054921!172915536!7205!7305?bmLocale=en&amp;bmUID=1095249303954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09480" y="1542960"/>
            <a:ext cx="8412120" cy="2943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4038480"/>
            <a:ext cx="7854840" cy="943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hapter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ize Organizational Opportun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Key opportunities exist in fields where the organization is better than its competitors - so called Distinctive Competenci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 organization should attempt to seize opportunities in areas that not only is it better than its competitors in, but in areas where they will/can retain their advantage - so called Sustainable Competitive Advantag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nstantia"/>
              </a:rPr>
              <a:t>Strategic Marketin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Marke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process directed at the product and market levels so as to allocate resources to viable marketing opportun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cludes Planning, Implementation and Contr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process yields a  MARKETING 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Key Questions to ask at the Strategic Marketing level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are we 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do we want to g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we allocate resources to get to where we want to g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we convert our plans into actio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our results compare with our plans, and do deviations require new plans of ac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8736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TEP 1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 A Situational Analysis &amp; SWO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Asks: What is the current situation with the market or the product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re are many internal and external sources from which to draw this informatio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 SWOT analysis is a key tool to determining the answer to: What is the current situation with the market or the product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WOT 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Strategic planning tool used to detect key opportun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alysis of ke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al Strengths (Within the orgs. contro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al Weaknesses (Within the orgs. contro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ternal Opportunities (Can be acted up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ternal Threats ( Things to be watch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rom the SWOT process plans can be made to build on/improve strengths, detect and fix weaknesses, seize opportunity, and be aware of potential thre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WOT 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rcRect l="29175" t="23619" r="12254" b="29516"/>
          <a:stretch/>
        </p:blipFill>
        <p:spPr>
          <a:xfrm>
            <a:off x="2057400" y="2286000"/>
            <a:ext cx="51055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WOT 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rcRect l="36114" t="37006" r="16666" b="24318"/>
          <a:stretch/>
        </p:blipFill>
        <p:spPr>
          <a:xfrm>
            <a:off x="914400" y="1905120"/>
            <a:ext cx="7315200" cy="32986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2362320" y="571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Verdana"/>
                <a:hlinkClick r:id="rId2"/>
              </a:rPr>
              <a:t>Want to read more about SWOT? Click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TEP 2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 Set Marketing Goals and Obj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Marketing objectives must be clear, attainable and measurable target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Key objectives centre around Sales, Market Share and Customer satisfactio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velop a Strategy to achieve the marketing objectiv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Key strategies  centre around reducing cost or increasing revenu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 this Section we will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Corporate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Business Unit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why Business Mission, Values, Culture and Goals are important to organiz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ively use strategic planning tools such as the SWOT analysis, Business Portfolio Analysis and the Market Product Analysis to assess strategic op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through the strategic marketing process through the planning, implementation and control ph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ypical Marketing strategies in order to increase reven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duct Development: Develop a new product for an existing mark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rket Development: Enter a new market with an existing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rket Penetration:  Sell more of a current product to your existing mark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iversification: Sell a new product to a new marke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TEP 3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- Adjust the Marketing Mix to suit the Strate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Determine the best product, the best price, the best promotion and the best distribution methods to meet the objectiv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et the Bud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Plan for the costs of implementing the strategy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Key Steps in the Marketing Pl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mplement and Control the Strateg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ire the right people for the job and assign their ro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sign, Schedule and Execute the planne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aluate the Strategies effectiveness in achieving the set objectiv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ometimes, especially if the time from situational analysis to planning to implementation is long there will be a gap created into what is sold versus what could have been sold if the required changes (implementation) could have been made sooner.  This situation is known as the Planning Ga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tegy involves the planning and the execution of the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tegic  planning is a process that plans for the Long-Te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tegic planning can take place at two level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Corporate Level - Strategic Corporate Plan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Product Level - Strategic Marketing</a:t>
            </a: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eps taken at the corporate (top) level to develop long-run approaches to corporate survival and grow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ep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Establish Core Valu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– enduring principles that the firm lives b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fine the corporat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Missio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- What is it we do, to whom to we do it, How we do it and why we do 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velop a complementary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Organizational Culture,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at supports the Core Values and Miss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t specific and measurable Goals &amp;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Objectiv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or targets to be met my the organiz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These objectives may include such things as Survival, Profit, Market Share, Unit Sales, Quality, Employee Welfare, Social Responsibility, Shareholder value, Customer Val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#1 - Where are we now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are our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ustomer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do we do well (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ompetencie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)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do we do better than anybody else? (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ompetitive Advantage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are our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ompetitor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ses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#2 - Where do we want to g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ston Consulting Group Matri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37739" t="22012" r="18867" b="25156"/>
          <a:stretch/>
        </p:blipFill>
        <p:spPr>
          <a:xfrm>
            <a:off x="2438280" y="28195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trategic Corporate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ses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#2 - Where do we want to g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rket-Product Gr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rcRect l="0" t="25156" r="58491" b="22012"/>
          <a:stretch/>
        </p:blipFill>
        <p:spPr>
          <a:xfrm>
            <a:off x="1600200" y="3048120"/>
            <a:ext cx="685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5:43:26Z</dcterms:created>
  <dc:creator>Debbie Vincent</dc:creator>
  <dc:description/>
  <dc:language>en-US</dc:language>
  <cp:lastModifiedBy>Tilley, Paul (C'ville)</cp:lastModifiedBy>
  <dcterms:modified xsi:type="dcterms:W3CDTF">2011-09-20T12:12:32Z</dcterms:modified>
  <cp:revision>8</cp:revision>
  <dc:subject/>
  <dc:title>Marketing in the Organization: An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